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de7"/>
            </a:gs>
            <a:gs pos="50000">
              <a:srgbClr val="fefefe"/>
            </a:gs>
            <a:gs pos="100000">
              <a:srgbClr val="9d9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2e2e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36760" y="6500880"/>
            <a:ext cx="650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S.David, JM Loiseaux, Journées prospectives DAPNIA et IN2P3, Giens, 21-26 octobre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57240">
            <a:solidFill>
              <a:srgbClr val="2e2e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52280"/>
            <a:ext cx="8839440" cy="49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90927"/>
              </a:gs>
              <a:gs pos="50000">
                <a:srgbClr val="3333cc"/>
              </a:gs>
              <a:gs pos="100000">
                <a:srgbClr val="09092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de7"/>
            </a:gs>
            <a:gs pos="50000">
              <a:srgbClr val="fefefe"/>
            </a:gs>
            <a:gs pos="100000">
              <a:srgbClr val="9d9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542240" y="1523880"/>
            <a:ext cx="60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Etudes de systèmes innova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our le nucléaire du fut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355200" y="3276720"/>
            <a:ext cx="23983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. Da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CNRS/IN2P3/IPN Ors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JM Loise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CNRS/IN2P3/ISN Greno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5105520"/>
            <a:ext cx="899136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Avec la contribution des travaux ou la participatio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O. Déruelle, G. Fioni, D. Heuer, O. Méplan, H. Nifenecker, A. Nuttin, D. Ridikas, JP. Schapi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de7"/>
            </a:gs>
            <a:gs pos="50000">
              <a:srgbClr val="fefefe"/>
            </a:gs>
            <a:gs pos="100000">
              <a:srgbClr val="9d9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354960" y="1066680"/>
            <a:ext cx="8553960" cy="4883400"/>
            <a:chOff x="354960" y="1066680"/>
            <a:chExt cx="8553960" cy="4883400"/>
          </a:xfrm>
        </p:grpSpPr>
        <p:pic>
          <p:nvPicPr>
            <p:cNvPr id="185" name="reprocessing_sd" descr=""/>
            <p:cNvPicPr/>
            <p:nvPr/>
          </p:nvPicPr>
          <p:blipFill>
            <a:blip r:embed="rId1"/>
            <a:stretch/>
          </p:blipFill>
          <p:spPr>
            <a:xfrm>
              <a:off x="3581280" y="1066680"/>
              <a:ext cx="5327640" cy="488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54960" y="1523880"/>
              <a:ext cx="4490280" cy="1153440"/>
            </a:xfrm>
            <a:prstGeom prst="roundRect">
              <a:avLst>
                <a:gd name="adj" fmla="val 16667"/>
              </a:avLst>
            </a:prstGeom>
            <a:solidFill>
              <a:srgbClr val="cff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Réacteurs à sels fond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Modérateur graph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el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LiF 70% BeF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17.5% ThF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/UF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12.5 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33520" y="4267080"/>
            <a:ext cx="4343400" cy="1905120"/>
            <a:chOff x="533520" y="4267080"/>
            <a:chExt cx="4343400" cy="1905120"/>
          </a:xfrm>
        </p:grpSpPr>
        <p:sp>
          <p:nvSpPr>
            <p:cNvPr id="188" name=""/>
            <p:cNvSpPr/>
            <p:nvPr/>
          </p:nvSpPr>
          <p:spPr>
            <a:xfrm>
              <a:off x="533520" y="4876920"/>
              <a:ext cx="3352680" cy="129528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xtraction en ligne des poisons neutroniqu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233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a, produits de f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0800000">
              <a:off x="2438280" y="4267080"/>
              <a:ext cx="1371600" cy="533520"/>
            </a:xfrm>
            <a:custGeom>
              <a:avLst/>
              <a:gdLst>
                <a:gd name="textAreaLeft" fmla="*/ 349920 w 1371600"/>
                <a:gd name="textAreaRight" fmla="*/ 1233720 w 1371600"/>
                <a:gd name="textAreaTop" fmla="*/ 417240 h 533520"/>
                <a:gd name="textAreaBottom" fmla="*/ 4798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9060"/>
                  </a:moveTo>
                  <a:lnTo>
                    <a:pt x="16889" y="19060"/>
                  </a:lnTo>
                  <a:lnTo>
                    <a:pt x="16889" y="5513"/>
                  </a:lnTo>
                  <a:lnTo>
                    <a:pt x="14718" y="5513"/>
                  </a:lnTo>
                  <a:lnTo>
                    <a:pt x="18159" y="0"/>
                  </a:lnTo>
                  <a:lnTo>
                    <a:pt x="21600" y="5513"/>
                  </a:lnTo>
                  <a:lnTo>
                    <a:pt x="19429" y="5513"/>
                  </a:lnTo>
                  <a:lnTo>
                    <a:pt x="1942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1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38480" y="5029200"/>
              <a:ext cx="838440" cy="762120"/>
            </a:xfrm>
            <a:custGeom>
              <a:avLst/>
              <a:gdLst>
                <a:gd name="textAreaLeft" fmla="*/ 213840 w 838440"/>
                <a:gd name="textAreaRight" fmla="*/ 754200 w 838440"/>
                <a:gd name="textAreaTop" fmla="*/ 596160 h 762120"/>
                <a:gd name="textAreaBottom" fmla="*/ 685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9060"/>
                  </a:moveTo>
                  <a:lnTo>
                    <a:pt x="16889" y="19060"/>
                  </a:lnTo>
                  <a:lnTo>
                    <a:pt x="16889" y="5513"/>
                  </a:lnTo>
                  <a:lnTo>
                    <a:pt x="14718" y="5513"/>
                  </a:lnTo>
                  <a:lnTo>
                    <a:pt x="18159" y="0"/>
                  </a:lnTo>
                  <a:lnTo>
                    <a:pt x="21600" y="5513"/>
                  </a:lnTo>
                  <a:lnTo>
                    <a:pt x="19429" y="5513"/>
                  </a:lnTo>
                  <a:lnTo>
                    <a:pt x="1942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1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31400" y="146880"/>
            <a:ext cx="681264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éveloppement du nucléaire :le cycle tho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de7"/>
            </a:gs>
            <a:gs pos="50000">
              <a:srgbClr val="fefefe"/>
            </a:gs>
            <a:gs pos="100000">
              <a:srgbClr val="9d9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867280" y="2819520"/>
            <a:ext cx="3048120" cy="2228400"/>
          </a:xfrm>
          <a:prstGeom prst="rect">
            <a:avLst/>
          </a:prstGeom>
          <a:solidFill>
            <a:srgbClr val="cff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vantage identique en terme de puissance thermique résiduelle à long te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perspective du stockage des déchets ul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1400" y="146880"/>
            <a:ext cx="681264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éveloppement du nucléaire :le cycle tho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360" y="1066680"/>
            <a:ext cx="2872080" cy="3988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adiotoxicités indu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80880" y="1600200"/>
            <a:ext cx="5410440" cy="4648320"/>
            <a:chOff x="380880" y="1600200"/>
            <a:chExt cx="5410440" cy="4648320"/>
          </a:xfrm>
        </p:grpSpPr>
        <p:pic>
          <p:nvPicPr>
            <p:cNvPr id="196" name="radio-tot" descr=""/>
            <p:cNvPicPr/>
            <p:nvPr/>
          </p:nvPicPr>
          <p:blipFill>
            <a:blip r:embed="rId1"/>
            <a:stretch/>
          </p:blipFill>
          <p:spPr>
            <a:xfrm>
              <a:off x="380880" y="1600200"/>
              <a:ext cx="541044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4419720" y="3124080"/>
              <a:ext cx="9903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77560" y="344340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Mine R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43000" y="4343400"/>
              <a:ext cx="990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45160" y="4572000"/>
              <a:ext cx="8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Mine 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de7"/>
            </a:gs>
            <a:gs pos="50000">
              <a:srgbClr val="fefefe"/>
            </a:gs>
            <a:gs pos="100000">
              <a:srgbClr val="9d9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457200" y="1828800"/>
            <a:ext cx="2452680" cy="3505320"/>
            <a:chOff x="457200" y="1828800"/>
            <a:chExt cx="2452680" cy="3505320"/>
          </a:xfrm>
        </p:grpSpPr>
        <p:sp>
          <p:nvSpPr>
            <p:cNvPr id="202" name=""/>
            <p:cNvSpPr/>
            <p:nvPr/>
          </p:nvSpPr>
          <p:spPr>
            <a:xfrm>
              <a:off x="457200" y="1874880"/>
              <a:ext cx="2133720" cy="1474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3000" y="2219400"/>
              <a:ext cx="1243080" cy="785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0640" y="3027600"/>
              <a:ext cx="189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ouverture 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459800">
              <a:off x="1441440" y="2333160"/>
              <a:ext cx="39312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62576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6257664"/>
                </a:path>
              </a:pathLst>
            </a:custGeom>
            <a:noFill/>
            <a:ln w="47520">
              <a:solidFill>
                <a:srgbClr val="0000cc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15040" y="251964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cc"/>
                  </a:solidFill>
                  <a:latin typeface="Comic Sans MS"/>
                </a:rPr>
                <a:t>U/P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55600" y="1828800"/>
              <a:ext cx="740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RN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98840" y="2162160"/>
              <a:ext cx="49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cc"/>
                  </a:solidFill>
                  <a:latin typeface="Comic Sans MS"/>
                </a:rPr>
                <a:t>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7200" y="3873600"/>
              <a:ext cx="2209680" cy="14605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3560" y="4213440"/>
              <a:ext cx="1658880" cy="974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84840" y="3876840"/>
              <a:ext cx="6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S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24120" y="478656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800080"/>
                  </a:solidFill>
                  <a:latin typeface="Comic Sans MS"/>
                </a:rPr>
                <a:t>Th/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459800">
              <a:off x="1521360" y="4376520"/>
              <a:ext cx="388440" cy="55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62576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6257664"/>
                </a:path>
              </a:pathLst>
            </a:custGeom>
            <a:noFill/>
            <a:ln w="47520">
              <a:solidFill>
                <a:srgbClr val="80008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56600" y="425772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800080"/>
                  </a:solidFill>
                  <a:latin typeface="Comic Sans MS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5400000">
              <a:off x="1141200" y="3413160"/>
              <a:ext cx="384120" cy="380880"/>
            </a:xfrm>
            <a:prstGeom prst="rightArrow">
              <a:avLst>
                <a:gd name="adj1" fmla="val 50000"/>
                <a:gd name="adj2" fmla="val 25213"/>
              </a:avLst>
            </a:prstGeom>
            <a:solidFill>
              <a:srgbClr val="f4ceb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9160" y="3411720"/>
              <a:ext cx="624240" cy="398880"/>
            </a:xfrm>
            <a:prstGeom prst="rect">
              <a:avLst/>
            </a:prstGeom>
            <a:solidFill>
              <a:srgbClr val="f4c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baseline="30000">
                  <a:solidFill>
                    <a:srgbClr val="ff0000"/>
                  </a:solidFill>
                  <a:latin typeface="Comic Sans MS"/>
                </a:rPr>
                <a:t>233</a:t>
              </a:r>
              <a:r>
                <a:rPr b="1" lang="fr-FR" sz="2000" spc="-1" strike="noStrike">
                  <a:solidFill>
                    <a:srgbClr val="ff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03080" y="3381480"/>
              <a:ext cx="1306800" cy="398880"/>
            </a:xfrm>
            <a:prstGeom prst="rect">
              <a:avLst/>
            </a:prstGeom>
            <a:solidFill>
              <a:srgbClr val="f4c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300kg/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3400" y="1371600"/>
            <a:ext cx="52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x:  Convertisseurs Pu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omic Sans MS"/>
              </a:rPr>
              <a:t>233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 à neutrons ra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7960" y="838080"/>
            <a:ext cx="4071600" cy="3988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éploiement significatif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1400" y="146880"/>
            <a:ext cx="681264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éveloppement du nucléaire :le cycle tho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200" y="5486400"/>
            <a:ext cx="62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utres voies de production d’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omic Sans MS"/>
              </a:rPr>
              <a:t>233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 à explor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x: MOX Th/Pu en REP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ex. thèse O. Déruelle, SPh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971800" y="1828800"/>
            <a:ext cx="5724360" cy="3429000"/>
            <a:chOff x="2971800" y="1828800"/>
            <a:chExt cx="5724360" cy="3429000"/>
          </a:xfrm>
        </p:grpSpPr>
        <p:pic>
          <p:nvPicPr>
            <p:cNvPr id="223" name="puissances_REP_RNR_RSF" descr=""/>
            <p:cNvPicPr/>
            <p:nvPr/>
          </p:nvPicPr>
          <p:blipFill>
            <a:blip r:embed="rId1"/>
            <a:stretch/>
          </p:blipFill>
          <p:spPr>
            <a:xfrm>
              <a:off x="3505320" y="1828800"/>
              <a:ext cx="44845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971800" y="1981440"/>
              <a:ext cx="304920" cy="32004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64440 h 3200400"/>
                <a:gd name="textAreaBottom" fmla="*/ 313596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699"/>
                    <a:pt x="10800" y="1397"/>
                  </a:cubicBezTo>
                  <a:lnTo>
                    <a:pt x="10800" y="9403"/>
                  </a:lnTo>
                  <a:cubicBezTo>
                    <a:pt x="10800" y="10102"/>
                    <a:pt x="16200" y="10800"/>
                    <a:pt x="21600" y="10800"/>
                  </a:cubicBezTo>
                  <a:cubicBezTo>
                    <a:pt x="16200" y="10800"/>
                    <a:pt x="10800" y="11499"/>
                    <a:pt x="10800" y="12197"/>
                  </a:cubicBezTo>
                  <a:lnTo>
                    <a:pt x="10800" y="20203"/>
                  </a:lnTo>
                  <a:cubicBezTo>
                    <a:pt x="10800" y="20902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01000" y="2438640"/>
              <a:ext cx="1595160" cy="1068840"/>
            </a:xfrm>
            <a:prstGeom prst="rect">
              <a:avLst/>
            </a:prstGeom>
            <a:solidFill>
              <a:srgbClr val="fff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éploi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optimis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Calculs A. Nuttin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ISN Greno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de7"/>
            </a:gs>
            <a:gs pos="50000">
              <a:srgbClr val="fefefe"/>
            </a:gs>
            <a:gs pos="100000">
              <a:srgbClr val="9d9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46520" y="146880"/>
            <a:ext cx="436032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Conclusion, programme 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280" y="1407960"/>
            <a:ext cx="8839440" cy="2533320"/>
          </a:xfrm>
          <a:prstGeom prst="rect">
            <a:avLst/>
          </a:prstGeom>
          <a:solidFill>
            <a:srgbClr val="cff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ogramme de recherche bien défini et déjà bien engag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EGAPIE, MUSE, DATA, Accélér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question aujourd’hui est la définition d’un démonstrateur (100MW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- PDS-XADS (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PCRD), poursuite dans le 6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PC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- L’IN2P3 coordonne le WP accélér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- Deux types de caloporteur sont étudiés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Pb-Bi (ANSAL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e (FRAMATO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ojets intermédiaires MYRRHA,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5400" y="855720"/>
            <a:ext cx="6892560" cy="3988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oblématique de l’ADS incinérateur d’actinides min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22760" y="4094280"/>
            <a:ext cx="8390520" cy="1867680"/>
            <a:chOff x="122760" y="4094280"/>
            <a:chExt cx="8390520" cy="1867680"/>
          </a:xfrm>
        </p:grpSpPr>
        <p:sp>
          <p:nvSpPr>
            <p:cNvPr id="230" name=""/>
            <p:cNvSpPr/>
            <p:nvPr/>
          </p:nvSpPr>
          <p:spPr>
            <a:xfrm>
              <a:off x="250560" y="4094280"/>
              <a:ext cx="4627800" cy="398880"/>
            </a:xfrm>
            <a:prstGeom prst="rect">
              <a:avLst/>
            </a:pr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spect « outil de recherche » de l’A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2760" y="4648320"/>
              <a:ext cx="8390520" cy="1313640"/>
            </a:xfrm>
            <a:prstGeom prst="rect">
              <a:avLst/>
            </a:prstGeom>
            <a:solidFill>
              <a:srgbClr val="cff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Nouvelle façon de faire de la physique expérimentale des réac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ccès au paramètre « temps », étude innovante de la multi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ests de conditions accidentelles possi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util de développement de systèmes innova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de7"/>
            </a:gs>
            <a:gs pos="50000">
              <a:srgbClr val="fefefe"/>
            </a:gs>
            <a:gs pos="100000">
              <a:srgbClr val="9d9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72800" y="146880"/>
            <a:ext cx="688716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Conclusion, thorium et réacteurs à sels fo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6400" y="898560"/>
            <a:ext cx="6324120" cy="7038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ycle thorium, réacteurs à sels fond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oI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THERMOST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IN2P3)  pour le 6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PC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9320" y="1887480"/>
            <a:ext cx="6709680" cy="1008720"/>
          </a:xfrm>
          <a:prstGeom prst="rect">
            <a:avLst/>
          </a:prstGeom>
          <a:solidFill>
            <a:srgbClr val="cff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cénarios, études par sim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uplage neutronique/unité de re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apacités de déploiement, production 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233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 en am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720" y="3243240"/>
            <a:ext cx="7412040" cy="1008720"/>
          </a:xfrm>
          <a:prstGeom prst="rect">
            <a:avLst/>
          </a:prstGeom>
          <a:solidFill>
            <a:srgbClr val="cff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eutronique expérimen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alidation des propriétés de ralentissement (C, F, Li, Be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ux de réaction essentiel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0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</a:t>
            </a:r>
            <a:r>
              <a:rPr b="0" lang="fr-FR" sz="2000" spc="-1" strike="noStrike" u="sng">
                <a:solidFill>
                  <a:srgbClr val="ff0000"/>
                </a:solidFill>
                <a:uFillTx/>
                <a:latin typeface="Comic Sans MS"/>
              </a:rPr>
              <a:t> projet P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9840" y="4600440"/>
            <a:ext cx="8488080" cy="1313640"/>
          </a:xfrm>
          <a:prstGeom prst="rect">
            <a:avLst/>
          </a:prstGeom>
          <a:solidFill>
            <a:srgbClr val="cff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ité de re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incipe de base d’extraction des noyaux clés, séparation Th/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oposition de construction d’une boucle de sels fondus non 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ise en place d’une forte collaboration avec le département Chim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de7"/>
            </a:gs>
            <a:gs pos="50000">
              <a:srgbClr val="fefefe"/>
            </a:gs>
            <a:gs pos="100000">
              <a:srgbClr val="9d9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981080" y="1781280"/>
          <a:ext cx="5715000" cy="1724040"/>
        </p:xfrm>
        <a:graphic>
          <a:graphicData uri="http://schemas.openxmlformats.org/drawingml/2006/table">
            <a:tbl>
              <a:tblPr/>
              <a:tblGrid>
                <a:gridCol w="1708200"/>
                <a:gridCol w="1706760"/>
                <a:gridCol w="2300040"/>
              </a:tblGrid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kg/Gwe.a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duction françai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kg/a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239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p, Am,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76320" y="898560"/>
            <a:ext cx="4724280" cy="3988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s déchets nucléaires (loi de 1991)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840" y="1386000"/>
            <a:ext cx="55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’aval du cycle actuel est dominé par le pluton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6320" y="3581280"/>
            <a:ext cx="8991360" cy="2667240"/>
            <a:chOff x="76320" y="3581280"/>
            <a:chExt cx="8991360" cy="2667240"/>
          </a:xfrm>
        </p:grpSpPr>
        <p:sp>
          <p:nvSpPr>
            <p:cNvPr id="47" name=""/>
            <p:cNvSpPr/>
            <p:nvPr/>
          </p:nvSpPr>
          <p:spPr>
            <a:xfrm>
              <a:off x="76320" y="3581280"/>
              <a:ext cx="3200400" cy="398880"/>
            </a:xfrm>
            <a:prstGeom prst="rect">
              <a:avLst/>
            </a:pr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…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u nucléaire du fut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76320" y="4038480"/>
              <a:ext cx="8991360" cy="2210040"/>
              <a:chOff x="76320" y="4038480"/>
              <a:chExt cx="8991360" cy="2210040"/>
            </a:xfrm>
          </p:grpSpPr>
          <p:sp>
            <p:nvSpPr>
              <p:cNvPr id="49" name=""/>
              <p:cNvSpPr/>
              <p:nvPr/>
            </p:nvSpPr>
            <p:spPr>
              <a:xfrm>
                <a:off x="76320" y="4952880"/>
                <a:ext cx="1295280" cy="5493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Scénari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752480" y="4130640"/>
                <a:ext cx="320040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fffab"/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Arrêt du nucléai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52480" y="4775040"/>
                <a:ext cx="320040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38160">
                <a:solidFill>
                  <a:srgbClr val="17b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Stagnation du nucléai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448240" y="5562720"/>
                <a:ext cx="335304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f4ceb6"/>
              </a:solidFill>
              <a:ln w="38160">
                <a:solidFill>
                  <a:srgbClr val="78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u = combustible précieu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52480" y="5410080"/>
                <a:ext cx="3200400" cy="762120"/>
              </a:xfrm>
              <a:prstGeom prst="roundRect">
                <a:avLst>
                  <a:gd name="adj" fmla="val 16667"/>
                </a:avLst>
              </a:prstGeom>
              <a:solidFill>
                <a:srgbClr val="f4ceb6"/>
              </a:solidFill>
              <a:ln w="38160">
                <a:solidFill>
                  <a:srgbClr val="78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Développement d’un nucléaire durab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447920" y="4038480"/>
                <a:ext cx="228600" cy="221004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57600 h 2210040"/>
                  <a:gd name="textAreaBottom" fmla="*/ 2152440 h 221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410080" y="4792680"/>
                <a:ext cx="3429000" cy="40788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38160">
                <a:solidFill>
                  <a:srgbClr val="17b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Stocks de Pu (+AM) à limi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181480" y="4135320"/>
                <a:ext cx="3886200" cy="436680"/>
              </a:xfrm>
              <a:prstGeom prst="roundRect">
                <a:avLst>
                  <a:gd name="adj" fmla="val 16667"/>
                </a:avLst>
              </a:prstGeom>
              <a:solidFill>
                <a:srgbClr val="ffffab"/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Dénaturation Pu (anti-prolifération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2e2e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9040" y="146880"/>
            <a:ext cx="202860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de7"/>
            </a:gs>
            <a:gs pos="50000">
              <a:srgbClr val="fefefe"/>
            </a:gs>
            <a:gs pos="100000">
              <a:srgbClr val="9d9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76320" y="2743200"/>
            <a:ext cx="8991360" cy="3506400"/>
            <a:chOff x="76320" y="2743200"/>
            <a:chExt cx="8991360" cy="3506400"/>
          </a:xfrm>
        </p:grpSpPr>
        <p:sp>
          <p:nvSpPr>
            <p:cNvPr id="60" name=""/>
            <p:cNvSpPr/>
            <p:nvPr/>
          </p:nvSpPr>
          <p:spPr>
            <a:xfrm>
              <a:off x="76320" y="2743200"/>
              <a:ext cx="8991360" cy="3505320"/>
            </a:xfrm>
            <a:prstGeom prst="rect">
              <a:avLst/>
            </a:prstGeom>
            <a:solidFill>
              <a:srgbClr val="cff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cutaway" descr=""/>
            <p:cNvPicPr/>
            <p:nvPr/>
          </p:nvPicPr>
          <p:blipFill>
            <a:blip r:embed="rId1"/>
            <a:srcRect l="8355" t="16253" r="6678" b="16004"/>
            <a:stretch/>
          </p:blipFill>
          <p:spPr>
            <a:xfrm>
              <a:off x="369720" y="3200400"/>
              <a:ext cx="229716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86200" y="2743200"/>
              <a:ext cx="827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x: GT-MHR, caloporteur He, spectre thermique 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(calculs D. Ridikas, SPh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6360" y="5607000"/>
              <a:ext cx="3120480" cy="642600"/>
            </a:xfrm>
            <a:prstGeom prst="rect">
              <a:avLst/>
            </a:prstGeom>
            <a:solidFill>
              <a:srgbClr val="cff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Microbill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combustible + graphite, S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28600" y="990720"/>
            <a:ext cx="5638680" cy="7038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énaturation du plutonium, limitation du sto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447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 Mono recyclage MOX en R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 Incinération sur support inerte (absence d’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omic Sans MS"/>
              </a:rPr>
              <a:t>238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ans tous les cas, le Pu reste dominant par rapport aux actinides min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s d’incinération spécifique des 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971800" y="3532320"/>
            <a:ext cx="5867280" cy="2071080"/>
            <a:chOff x="2971800" y="3532320"/>
            <a:chExt cx="5867280" cy="2071080"/>
          </a:xfrm>
        </p:grpSpPr>
        <p:sp>
          <p:nvSpPr>
            <p:cNvPr id="67" name=""/>
            <p:cNvSpPr/>
            <p:nvPr/>
          </p:nvSpPr>
          <p:spPr>
            <a:xfrm>
              <a:off x="4648320" y="4322880"/>
              <a:ext cx="838080" cy="431640"/>
            </a:xfrm>
            <a:prstGeom prst="rect">
              <a:avLst/>
            </a:pr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54.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48320" y="3927600"/>
              <a:ext cx="838080" cy="395280"/>
            </a:xfrm>
            <a:prstGeom prst="rect">
              <a:avLst/>
            </a:pr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37.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48320" y="3532320"/>
              <a:ext cx="838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40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6400" y="4322880"/>
              <a:ext cx="836640" cy="431640"/>
            </a:xfrm>
            <a:prstGeom prst="rect">
              <a:avLst/>
            </a:pr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72.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6400" y="3927600"/>
              <a:ext cx="836640" cy="395280"/>
            </a:xfrm>
            <a:prstGeom prst="rect">
              <a:avLst/>
            </a:pr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4.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532320"/>
              <a:ext cx="836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41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23040" y="4322880"/>
              <a:ext cx="838080" cy="431640"/>
            </a:xfrm>
            <a:prstGeom prst="rect">
              <a:avLst/>
            </a:pr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32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23040" y="3927600"/>
              <a:ext cx="838080" cy="395280"/>
            </a:xfrm>
            <a:prstGeom prst="rect">
              <a:avLst/>
            </a:pr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23040" y="3532320"/>
              <a:ext cx="838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42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61120" y="4322880"/>
              <a:ext cx="839880" cy="431640"/>
            </a:xfrm>
            <a:prstGeom prst="rect">
              <a:avLst/>
            </a:pr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7.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1120" y="3927600"/>
              <a:ext cx="839880" cy="395280"/>
            </a:xfrm>
            <a:prstGeom prst="rect">
              <a:avLst/>
            </a:pr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161120" y="3532320"/>
              <a:ext cx="8398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01000" y="4322880"/>
              <a:ext cx="838080" cy="431640"/>
            </a:xfrm>
            <a:prstGeom prst="rect">
              <a:avLst/>
            </a:pr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01000" y="3927600"/>
              <a:ext cx="838080" cy="395280"/>
            </a:xfrm>
            <a:prstGeom prst="rect">
              <a:avLst/>
            </a:pr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01000" y="3532320"/>
              <a:ext cx="838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22560" y="4322880"/>
              <a:ext cx="725760" cy="431640"/>
            </a:xfrm>
            <a:prstGeom prst="rect">
              <a:avLst/>
            </a:prstGeom>
            <a:solidFill>
              <a:srgbClr val="ff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43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71800" y="4322880"/>
              <a:ext cx="9507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T=3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22560" y="3927600"/>
              <a:ext cx="725760" cy="395280"/>
            </a:xfrm>
            <a:prstGeom prst="rect">
              <a:avLst/>
            </a:prstGeom>
            <a:solidFill>
              <a:srgbClr val="ff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65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71800" y="3927600"/>
              <a:ext cx="950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T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22560" y="3532320"/>
              <a:ext cx="725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39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71800" y="3532320"/>
              <a:ext cx="950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71800" y="3927600"/>
              <a:ext cx="586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71800" y="4754520"/>
              <a:ext cx="586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35323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39080" y="35323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71800" y="3532320"/>
              <a:ext cx="586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839080" y="392760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71800" y="392760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71800" y="4322880"/>
              <a:ext cx="0" cy="431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39080" y="4322880"/>
              <a:ext cx="0" cy="431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03040" y="4960800"/>
              <a:ext cx="331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Inventaire en kg (t=0 et 3a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(P=600MWth 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= 10</a:t>
              </a:r>
              <a:r>
                <a:rPr b="0" lang="fr-FR" sz="1800" spc="-1" strike="noStrike" baseline="30000">
                  <a:solidFill>
                    <a:srgbClr val="000000"/>
                  </a:solidFill>
                  <a:latin typeface="Comic Sans MS"/>
                </a:rPr>
                <a:t>14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n/cm</a:t>
              </a:r>
              <a:r>
                <a:rPr b="0" lang="fr-FR" sz="1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/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68120" y="146880"/>
            <a:ext cx="427212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Scénario : arrêt du nuclé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2e2e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de7"/>
            </a:gs>
            <a:gs pos="50000">
              <a:srgbClr val="fefefe"/>
            </a:gs>
            <a:gs pos="100000">
              <a:srgbClr val="9d9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8800" y="146880"/>
            <a:ext cx="510264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Scénario : stagnation du nuclé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8560" y="1355760"/>
            <a:ext cx="79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ssibilité de multirecyclage en REP (comb. APA, Corail, M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oduction significative d’Am et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2e2e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6320" y="2133720"/>
            <a:ext cx="8991360" cy="4038480"/>
            <a:chOff x="76320" y="2133720"/>
            <a:chExt cx="8991360" cy="4038480"/>
          </a:xfrm>
        </p:grpSpPr>
        <p:sp>
          <p:nvSpPr>
            <p:cNvPr id="104" name=""/>
            <p:cNvSpPr/>
            <p:nvPr/>
          </p:nvSpPr>
          <p:spPr>
            <a:xfrm>
              <a:off x="76320" y="2133720"/>
              <a:ext cx="8991360" cy="4038480"/>
            </a:xfrm>
            <a:prstGeom prst="rect">
              <a:avLst/>
            </a:prstGeom>
            <a:solidFill>
              <a:srgbClr val="cff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52280" y="3581280"/>
              <a:ext cx="8723880" cy="2362320"/>
              <a:chOff x="152280" y="3581280"/>
              <a:chExt cx="8723880" cy="2362320"/>
            </a:xfrm>
          </p:grpSpPr>
          <p:sp>
            <p:nvSpPr>
              <p:cNvPr id="106" name=""/>
              <p:cNvSpPr/>
              <p:nvPr/>
            </p:nvSpPr>
            <p:spPr>
              <a:xfrm>
                <a:off x="6019920" y="3581280"/>
                <a:ext cx="2819160" cy="2362320"/>
              </a:xfrm>
              <a:prstGeom prst="rect">
                <a:avLst/>
              </a:prstGeom>
              <a:solidFill>
                <a:srgbClr val="fff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505320" y="3581280"/>
                <a:ext cx="2361960" cy="2362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52280" y="4419720"/>
                <a:ext cx="1067040" cy="533160"/>
              </a:xfrm>
              <a:prstGeom prst="ellipse">
                <a:avLst/>
              </a:prstGeom>
              <a:solidFill>
                <a:srgbClr val="ffcc99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Minera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828800" y="4419720"/>
                <a:ext cx="1295280" cy="533160"/>
              </a:xfrm>
              <a:prstGeom prst="ellipse">
                <a:avLst/>
              </a:prstGeom>
              <a:solidFill>
                <a:srgbClr val="ffcc99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 enrich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733920" y="4267080"/>
                <a:ext cx="1447560" cy="838440"/>
              </a:xfrm>
              <a:prstGeom prst="rect">
                <a:avLst/>
              </a:prstGeom>
              <a:solidFill>
                <a:srgbClr val="ffcc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RE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95% du par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257800" y="4495680"/>
                <a:ext cx="1600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883560" y="4305240"/>
                <a:ext cx="1218960" cy="762120"/>
              </a:xfrm>
              <a:prstGeom prst="rect">
                <a:avLst/>
              </a:prstGeom>
              <a:solidFill>
                <a:srgbClr val="ffcc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A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5% du par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905800" y="4038480"/>
                <a:ext cx="1029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Am+C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90640" y="489096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P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10400" y="4037760"/>
                <a:ext cx="1025640" cy="685800"/>
              </a:xfrm>
              <a:custGeom>
                <a:avLst/>
                <a:gdLst/>
                <a:ahLst/>
                <a:rect l="l" t="t" r="r" b="b"/>
                <a:pathLst>
                  <a:path w="720" h="432">
                    <a:moveTo>
                      <a:pt x="384" y="0"/>
                    </a:moveTo>
                    <a:lnTo>
                      <a:pt x="720" y="0"/>
                    </a:lnTo>
                    <a:lnTo>
                      <a:pt x="720" y="432"/>
                    </a:lnTo>
                    <a:lnTo>
                      <a:pt x="0" y="432"/>
                    </a:lnTo>
                    <a:lnTo>
                      <a:pt x="0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456320" y="3622680"/>
                <a:ext cx="141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Pu, Am, C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295280" y="468648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276720" y="46864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617280" y="5562720"/>
                <a:ext cx="216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Strate électrogè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495680" y="4952880"/>
                <a:ext cx="838440" cy="457200"/>
              </a:xfrm>
              <a:custGeom>
                <a:avLst/>
                <a:gdLst/>
                <a:ahLst/>
                <a:rect l="l" t="t" r="r" b="b"/>
                <a:pathLst>
                  <a:path w="528" h="288">
                    <a:moveTo>
                      <a:pt x="480" y="0"/>
                    </a:moveTo>
                    <a:lnTo>
                      <a:pt x="528" y="0"/>
                    </a:lnTo>
                    <a:lnTo>
                      <a:pt x="528" y="288"/>
                    </a:lnTo>
                    <a:lnTo>
                      <a:pt x="0" y="288"/>
                    </a:lnTo>
                    <a:lnTo>
                      <a:pt x="0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184080" y="5562720"/>
                <a:ext cx="257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Strate « incinératrice »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53000" y="2209680"/>
              <a:ext cx="6043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cénarios « double strate 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ncinération Am et Cm dans des réacteurs dédié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Nécessité de la sous-criticité (aspect de sûreté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DS: Accelerator-Driven System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83960" y="914400"/>
            <a:ext cx="5684040" cy="3988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imitation du stock de Pu et actinides min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de7"/>
            </a:gs>
            <a:gs pos="50000">
              <a:srgbClr val="fefefe"/>
            </a:gs>
            <a:gs pos="100000">
              <a:srgbClr val="9d9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219320"/>
            <a:ext cx="3124080" cy="1191240"/>
          </a:xfrm>
          <a:prstGeom prst="rect">
            <a:avLst/>
          </a:prstGeom>
          <a:solidFill>
            <a:srgbClr val="cff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ccéléra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rojet IPHI (source+inj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avités SC à moyenne et haute éner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46880"/>
            <a:ext cx="320040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90927"/>
              </a:gs>
              <a:gs pos="50000">
                <a:srgbClr val="3333cc"/>
              </a:gs>
              <a:gs pos="100000">
                <a:srgbClr val="09092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Programme 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614680" y="990720"/>
            <a:ext cx="3252600" cy="4933800"/>
            <a:chOff x="2614680" y="990720"/>
            <a:chExt cx="3252600" cy="4933800"/>
          </a:xfrm>
        </p:grpSpPr>
        <p:pic>
          <p:nvPicPr>
            <p:cNvPr id="127" name="ADS_3D" descr=""/>
            <p:cNvPicPr/>
            <p:nvPr/>
          </p:nvPicPr>
          <p:blipFill>
            <a:blip r:embed="rId1"/>
            <a:stretch/>
          </p:blipFill>
          <p:spPr>
            <a:xfrm>
              <a:off x="2614680" y="2590920"/>
              <a:ext cx="3252600" cy="33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690640" y="990720"/>
              <a:ext cx="1524240" cy="2047680"/>
            </a:xfrm>
            <a:custGeom>
              <a:avLst/>
              <a:gdLst/>
              <a:ahLst/>
              <a:rect l="l" t="t" r="r" b="b"/>
              <a:pathLst>
                <a:path w="912" h="1728">
                  <a:moveTo>
                    <a:pt x="0" y="0"/>
                  </a:moveTo>
                  <a:lnTo>
                    <a:pt x="912" y="0"/>
                  </a:lnTo>
                  <a:lnTo>
                    <a:pt x="912" y="17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1371600"/>
              <a:ext cx="156852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omic Sans MS"/>
                </a:rPr>
                <a:t>Faisceau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omic Sans MS"/>
                </a:rPr>
                <a:t>prot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</a:t>
              </a:r>
              <a:r>
                <a:rPr b="0" lang="fr-FR" sz="1800" spc="-1" strike="noStrike">
                  <a:solidFill>
                    <a:srgbClr val="ff0000"/>
                  </a:solidFill>
                  <a:latin typeface="Comic Sans MS"/>
                </a:rPr>
                <a:t>1 G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omic Sans MS"/>
                </a:rPr>
                <a:t>10-50 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257800" y="1219320"/>
            <a:ext cx="3581280" cy="1252080"/>
          </a:xfrm>
          <a:prstGeom prst="rect">
            <a:avLst/>
          </a:prstGeom>
          <a:solidFill>
            <a:srgbClr val="cff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onnées spécif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duites par neutron/pr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u meV au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voir présentation F. Gunsing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4251240"/>
            <a:ext cx="3124080" cy="1618560"/>
          </a:xfrm>
          <a:prstGeom prst="rect">
            <a:avLst/>
          </a:prstGeom>
          <a:solidFill>
            <a:srgbClr val="ff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estion du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DS-XADS (5ème PC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oposer le design d’un démonstrateur de 100 M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04920" y="4038480"/>
            <a:ext cx="3886200" cy="1465560"/>
            <a:chOff x="304920" y="4038480"/>
            <a:chExt cx="3886200" cy="1465560"/>
          </a:xfrm>
        </p:grpSpPr>
        <p:sp>
          <p:nvSpPr>
            <p:cNvPr id="133" name=""/>
            <p:cNvSpPr/>
            <p:nvPr/>
          </p:nvSpPr>
          <p:spPr>
            <a:xfrm>
              <a:off x="304920" y="4038480"/>
              <a:ext cx="2225520" cy="1465560"/>
            </a:xfrm>
            <a:prstGeom prst="rect">
              <a:avLst/>
            </a:prstGeom>
            <a:solidFill>
              <a:srgbClr val="cff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Cible de spal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enue des matériaux, corro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Exp. MEGAPI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209680" y="4343400"/>
              <a:ext cx="19814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572000" y="2743200"/>
            <a:ext cx="4082760" cy="1447920"/>
            <a:chOff x="4572000" y="2743200"/>
            <a:chExt cx="4082760" cy="1447920"/>
          </a:xfrm>
        </p:grpSpPr>
        <p:sp>
          <p:nvSpPr>
            <p:cNvPr id="136" name=""/>
            <p:cNvSpPr/>
            <p:nvPr/>
          </p:nvSpPr>
          <p:spPr>
            <a:xfrm>
              <a:off x="6142320" y="2743200"/>
              <a:ext cx="2512440" cy="1313640"/>
            </a:xfrm>
            <a:prstGeom prst="rect">
              <a:avLst/>
            </a:prstGeom>
            <a:solidFill>
              <a:srgbClr val="cff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Neutron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xp. MU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Réacteur MASUR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adar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572000" y="3886200"/>
              <a:ext cx="1371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de7"/>
            </a:gs>
            <a:gs pos="50000">
              <a:srgbClr val="fefefe"/>
            </a:gs>
            <a:gs pos="100000">
              <a:srgbClr val="9d9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9960" y="146880"/>
            <a:ext cx="58204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Scénario : développement du nuclé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2e2e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1676520"/>
            <a:ext cx="754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- Augmentation de la consommation mondiale (&gt;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puisement des ressources fossiles bon mar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utte contre l’émission de gaz à effet de ser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Beaucoup de scénarios prévoient 25% de nucléaire en 2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38320" y="3581280"/>
            <a:ext cx="7980840" cy="2152080"/>
            <a:chOff x="238320" y="3581280"/>
            <a:chExt cx="7980840" cy="2152080"/>
          </a:xfrm>
        </p:grpSpPr>
        <p:sp>
          <p:nvSpPr>
            <p:cNvPr id="142" name=""/>
            <p:cNvSpPr/>
            <p:nvPr/>
          </p:nvSpPr>
          <p:spPr>
            <a:xfrm>
              <a:off x="1445400" y="3581280"/>
              <a:ext cx="6773760" cy="459720"/>
            </a:xfrm>
            <a:prstGeom prst="rect">
              <a:avLst/>
            </a:prstGeom>
            <a:solidFill>
              <a:srgbClr val="ff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de 6% en 2000 à 25% en 2050 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fr-FR" sz="2000" spc="-1" strike="noStrike">
                  <a:solidFill>
                    <a:srgbClr val="ff0000"/>
                  </a:solidFill>
                  <a:latin typeface="Times New Roman"/>
                </a:rPr>
                <a:t>production absolue </a:t>
              </a:r>
              <a:r>
                <a:rPr b="1" lang="fr-FR" sz="2400" spc="-1" strike="noStrike">
                  <a:solidFill>
                    <a:srgbClr val="ff0000"/>
                  </a:solidFill>
                  <a:latin typeface="Times New Roman"/>
                </a:rPr>
                <a:t>x 10 </a:t>
              </a:r>
              <a:r>
                <a:rPr b="1" lang="fr-FR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8320" y="4419720"/>
              <a:ext cx="7449840" cy="1313640"/>
            </a:xfrm>
            <a:prstGeom prst="rect">
              <a:avLst/>
            </a:prstGeom>
            <a:solidFill>
              <a:srgbClr val="cff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Nouvelles conditions à rempl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tilisation optimale des ressources en Uranium ou Tho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Gestion des déchets appropriée, minimisation des reje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ûreté amélior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12040" y="1050840"/>
            <a:ext cx="2236680" cy="3988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texte géné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de7"/>
            </a:gs>
            <a:gs pos="50000">
              <a:srgbClr val="fefefe"/>
            </a:gs>
            <a:gs pos="100000">
              <a:srgbClr val="9d9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0600" y="974880"/>
            <a:ext cx="781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erves minerai Uranium : 16.10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RRA+RSE+ressources spéculativ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1 REP consomme 200 tonnes pour produire 1 Gwe.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960" y="146880"/>
            <a:ext cx="58204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Scénario : développement du nuclé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2e2e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1840" y="1752480"/>
            <a:ext cx="81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tentiel d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25 an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si la production actuelle est multipliée par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3120" y="4800600"/>
            <a:ext cx="8219880" cy="1313640"/>
          </a:xfrm>
          <a:prstGeom prst="rect">
            <a:avLst/>
          </a:prstGeom>
          <a:solidFill>
            <a:srgbClr val="cff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lus de problèmes de réser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- Déchets (radiotoxicité induite, inventaires, chaleur résiduelle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- Vitesse de déploiement (capacité de surgénér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8600" y="2362320"/>
            <a:ext cx="8610480" cy="2209680"/>
            <a:chOff x="228600" y="2362320"/>
            <a:chExt cx="8610480" cy="2209680"/>
          </a:xfrm>
        </p:grpSpPr>
        <p:sp>
          <p:nvSpPr>
            <p:cNvPr id="151" name=""/>
            <p:cNvSpPr/>
            <p:nvPr/>
          </p:nvSpPr>
          <p:spPr>
            <a:xfrm>
              <a:off x="228600" y="2362320"/>
              <a:ext cx="8610480" cy="2209680"/>
            </a:xfrm>
            <a:prstGeom prst="rect">
              <a:avLst/>
            </a:prstGeom>
            <a:solidFill>
              <a:srgbClr val="ff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3440" y="2438280"/>
              <a:ext cx="667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Recours à la surgénération (potentiel du minerai x20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6640" y="2971800"/>
              <a:ext cx="59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Cycle Uranium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800" spc="-1" strike="noStrike" baseline="30000">
                  <a:solidFill>
                    <a:srgbClr val="009900"/>
                  </a:solidFill>
                  <a:latin typeface="Comic Sans MS"/>
                </a:rPr>
                <a:t>238</a:t>
              </a:r>
              <a:r>
                <a:rPr b="0" lang="fr-FR" sz="1800" spc="-1" strike="noStrike">
                  <a:solidFill>
                    <a:srgbClr val="009900"/>
                  </a:solidFill>
                  <a:latin typeface="Comic Sans MS"/>
                </a:rPr>
                <a:t>U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   + n 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800" spc="-1" strike="noStrike" baseline="30000">
                  <a:solidFill>
                    <a:srgbClr val="000000"/>
                  </a:solidFill>
                  <a:latin typeface="Comic Sans MS"/>
                </a:rPr>
                <a:t>239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U  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800" spc="-1" strike="noStrike" baseline="30000">
                  <a:solidFill>
                    <a:srgbClr val="000000"/>
                  </a:solidFill>
                  <a:latin typeface="Comic Sans MS"/>
                </a:rPr>
                <a:t>239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Np 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(2j)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800" spc="-1" strike="noStrike" baseline="30000">
                  <a:solidFill>
                    <a:srgbClr val="ff0000"/>
                  </a:solidFill>
                  <a:latin typeface="Comic Sans MS"/>
                </a:rPr>
                <a:t>239</a:t>
              </a:r>
              <a:r>
                <a:rPr b="0" lang="fr-FR" sz="1800" spc="-1" strike="noStrike">
                  <a:solidFill>
                    <a:srgbClr val="ff0000"/>
                  </a:solidFill>
                  <a:latin typeface="Comic Sans MS"/>
                </a:rPr>
                <a:t>P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00720" y="3505320"/>
              <a:ext cx="578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Cycle Thorium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800" spc="-1" strike="noStrike" baseline="30000">
                  <a:solidFill>
                    <a:srgbClr val="009900"/>
                  </a:solidFill>
                  <a:latin typeface="Comic Sans MS"/>
                </a:rPr>
                <a:t>232</a:t>
              </a:r>
              <a:r>
                <a:rPr b="0" lang="fr-FR" sz="1800" spc="-1" strike="noStrike">
                  <a:solidFill>
                    <a:srgbClr val="009900"/>
                  </a:solidFill>
                  <a:latin typeface="Comic Sans MS"/>
                </a:rPr>
                <a:t>Th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 + n  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fr-FR" sz="1800" spc="-1" strike="noStrike" baseline="30000">
                  <a:solidFill>
                    <a:srgbClr val="000000"/>
                  </a:solidFill>
                  <a:latin typeface="Comic Sans MS"/>
                </a:rPr>
                <a:t>233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h 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fr-FR" sz="1800" spc="-1" strike="noStrike" baseline="30000">
                  <a:solidFill>
                    <a:srgbClr val="000000"/>
                  </a:solidFill>
                  <a:latin typeface="Comic Sans MS"/>
                </a:rPr>
                <a:t>233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a 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(27j)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800" spc="-1" strike="noStrike" baseline="30000">
                  <a:solidFill>
                    <a:srgbClr val="ff0000"/>
                  </a:solidFill>
                  <a:latin typeface="Comic Sans MS"/>
                </a:rPr>
                <a:t>233</a:t>
              </a:r>
              <a:r>
                <a:rPr b="0" lang="fr-FR" sz="1800" spc="-1" strike="noStrike">
                  <a:solidFill>
                    <a:srgbClr val="ff0000"/>
                  </a:solidFill>
                  <a:latin typeface="Comic Sans MS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90120" y="3809880"/>
              <a:ext cx="1157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Noyau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fiss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08840" y="3809880"/>
              <a:ext cx="1157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9900"/>
                  </a:solidFill>
                  <a:latin typeface="Comic Sans MS"/>
                </a:rPr>
                <a:t>Noyau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9900"/>
                  </a:solidFill>
                  <a:latin typeface="Comic Sans MS"/>
                </a:rPr>
                <a:t>fert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de7"/>
            </a:gs>
            <a:gs pos="50000">
              <a:srgbClr val="fefefe"/>
            </a:gs>
            <a:gs pos="100000">
              <a:srgbClr val="9d9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2280" y="13716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lière « standard », objectif affiché du CEA/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4267080"/>
            <a:ext cx="87026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 Production importante d’Am et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cyclage homogène ou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omic Sans MS"/>
              </a:rPr>
              <a:t>scénarios « double strate » 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480" y="146880"/>
            <a:ext cx="687816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éveloppement du nucléaire :le cycle uran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1828800"/>
            <a:ext cx="8610480" cy="2286000"/>
            <a:chOff x="304920" y="1828800"/>
            <a:chExt cx="8610480" cy="2286000"/>
          </a:xfrm>
        </p:grpSpPr>
        <p:sp>
          <p:nvSpPr>
            <p:cNvPr id="161" name=""/>
            <p:cNvSpPr/>
            <p:nvPr/>
          </p:nvSpPr>
          <p:spPr>
            <a:xfrm>
              <a:off x="304920" y="1828800"/>
              <a:ext cx="8610480" cy="2286000"/>
            </a:xfrm>
            <a:prstGeom prst="rect">
              <a:avLst/>
            </a:prstGeom>
            <a:solidFill>
              <a:srgbClr val="ff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979920" y="1994400"/>
              <a:ext cx="7245720" cy="1984680"/>
              <a:chOff x="979920" y="1994400"/>
              <a:chExt cx="7245720" cy="1984680"/>
            </a:xfrm>
          </p:grpSpPr>
          <p:sp>
            <p:nvSpPr>
              <p:cNvPr id="163" name=""/>
              <p:cNvSpPr/>
              <p:nvPr/>
            </p:nvSpPr>
            <p:spPr>
              <a:xfrm>
                <a:off x="979920" y="1994400"/>
                <a:ext cx="2202480" cy="779400"/>
              </a:xfrm>
              <a:prstGeom prst="roundRect">
                <a:avLst>
                  <a:gd name="adj" fmla="val 16667"/>
                </a:avLst>
              </a:prstGeom>
              <a:solidFill>
                <a:srgbClr val="ffddbb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n REP produit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en 50 a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901120" y="1994400"/>
                <a:ext cx="2324520" cy="779400"/>
              </a:xfrm>
              <a:prstGeom prst="roundRect">
                <a:avLst>
                  <a:gd name="adj" fmla="val 16667"/>
                </a:avLst>
              </a:prstGeom>
              <a:solidFill>
                <a:srgbClr val="ffddbb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Inventaire initi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d’un RNR Sodiu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93800" y="2193840"/>
                <a:ext cx="457200" cy="380880"/>
              </a:xfrm>
              <a:prstGeom prst="rightArrow">
                <a:avLst>
                  <a:gd name="adj1" fmla="val 50000"/>
                  <a:gd name="adj2" fmla="val 30009"/>
                </a:avLst>
              </a:prstGeom>
              <a:solidFill>
                <a:srgbClr val="ffddbb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115160" y="1994400"/>
                <a:ext cx="932400" cy="779400"/>
              </a:xfrm>
              <a:prstGeom prst="roundRect">
                <a:avLst>
                  <a:gd name="adj" fmla="val 16667"/>
                </a:avLst>
              </a:prstGeom>
              <a:solidFill>
                <a:srgbClr val="ffddbb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12 t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de P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209920" y="2193840"/>
                <a:ext cx="457200" cy="380880"/>
              </a:xfrm>
              <a:prstGeom prst="rightArrow">
                <a:avLst>
                  <a:gd name="adj1" fmla="val 50000"/>
                  <a:gd name="adj2" fmla="val 30009"/>
                </a:avLst>
              </a:prstGeom>
              <a:solidFill>
                <a:srgbClr val="ffddbb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96240" y="3062160"/>
                <a:ext cx="6267240" cy="916920"/>
              </a:xfrm>
              <a:prstGeom prst="rect">
                <a:avLst/>
              </a:pr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- Transition REP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 RNR à puissance consta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- Temps de doublement de l’ordre de 40 an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	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fr-FR" sz="1800" spc="-1" strike="noStrike">
                    <a:solidFill>
                      <a:srgbClr val="ff0000"/>
                    </a:solidFill>
                    <a:latin typeface="Comic Sans MS"/>
                  </a:rPr>
                  <a:t> </a:t>
                </a:r>
                <a:r>
                  <a:rPr b="0" lang="fr-FR" sz="1800" spc="-1" strike="noStrike">
                    <a:solidFill>
                      <a:srgbClr val="ff0000"/>
                    </a:solidFill>
                    <a:latin typeface="Comic Sans MS"/>
                  </a:rPr>
                  <a:t>Déploiement significatif impossible en 50 an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76320" y="5029200"/>
            <a:ext cx="8915400" cy="990720"/>
            <a:chOff x="76320" y="5029200"/>
            <a:chExt cx="8915400" cy="990720"/>
          </a:xfrm>
        </p:grpSpPr>
        <p:sp>
          <p:nvSpPr>
            <p:cNvPr id="170" name=""/>
            <p:cNvSpPr/>
            <p:nvPr/>
          </p:nvSpPr>
          <p:spPr>
            <a:xfrm>
              <a:off x="76320" y="5410080"/>
              <a:ext cx="8915400" cy="6098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38160">
              <a:solidFill>
                <a:srgbClr val="17b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cycle du thorium permet de répondre en partie à ces « points durs 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5400000">
              <a:off x="4152600" y="4762440"/>
              <a:ext cx="304920" cy="838080"/>
            </a:xfrm>
            <a:prstGeom prst="rightArrow">
              <a:avLst>
                <a:gd name="adj1" fmla="val 46593"/>
                <a:gd name="adj2" fmla="val 56773"/>
              </a:avLst>
            </a:prstGeom>
            <a:solidFill>
              <a:srgbClr val="ccffcc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28160" y="990720"/>
            <a:ext cx="5990400" cy="3682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ycle uranium: surgénérateur en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omic Sans MS"/>
              </a:rPr>
              <a:t>spectre rapid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(RN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de7"/>
            </a:gs>
            <a:gs pos="50000">
              <a:srgbClr val="fefefe"/>
            </a:gs>
            <a:gs pos="100000">
              <a:srgbClr val="9d9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2280" y="1508040"/>
            <a:ext cx="8610840" cy="131364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pectre rap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mbustible solide, caloporteur Pb, g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ventaire 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233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 :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15 t/Gw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Déploiement difficile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plus lent que le cycle urani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52280" y="2971800"/>
            <a:ext cx="6934320" cy="1828800"/>
            <a:chOff x="152280" y="2971800"/>
            <a:chExt cx="6934320" cy="1828800"/>
          </a:xfrm>
        </p:grpSpPr>
        <p:sp>
          <p:nvSpPr>
            <p:cNvPr id="175" name=""/>
            <p:cNvSpPr/>
            <p:nvPr/>
          </p:nvSpPr>
          <p:spPr>
            <a:xfrm>
              <a:off x="152280" y="2971800"/>
              <a:ext cx="6934320" cy="1828800"/>
            </a:xfrm>
            <a:prstGeom prst="rect">
              <a:avLst/>
            </a:prstGeom>
            <a:solidFill>
              <a:srgbClr val="cff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8600" y="3048120"/>
              <a:ext cx="6629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pectre therm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aible inventaire 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233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 : </a:t>
              </a: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1,2 t/G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Grande souplesse de déploi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31400" y="146880"/>
            <a:ext cx="681264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éveloppement du nucléaire :le cycle tho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99880" y="4022640"/>
            <a:ext cx="7049880" cy="2046960"/>
            <a:chOff x="299880" y="4022640"/>
            <a:chExt cx="7049880" cy="2046960"/>
          </a:xfrm>
        </p:grpSpPr>
        <p:grpSp>
          <p:nvGrpSpPr>
            <p:cNvPr id="179" name=""/>
            <p:cNvGrpSpPr/>
            <p:nvPr/>
          </p:nvGrpSpPr>
          <p:grpSpPr>
            <a:xfrm>
              <a:off x="2446200" y="4908600"/>
              <a:ext cx="4903560" cy="1161000"/>
              <a:chOff x="2446200" y="4908600"/>
              <a:chExt cx="4903560" cy="1161000"/>
            </a:xfrm>
          </p:grpSpPr>
          <p:sp>
            <p:nvSpPr>
              <p:cNvPr id="180" name=""/>
              <p:cNvSpPr/>
              <p:nvPr/>
            </p:nvSpPr>
            <p:spPr>
              <a:xfrm>
                <a:off x="3430800" y="5060880"/>
                <a:ext cx="3918960" cy="1008720"/>
              </a:xfrm>
              <a:prstGeom prst="rect">
                <a:avLst/>
              </a:prstGeom>
              <a:solidFill>
                <a:srgbClr val="cff9dd"/>
              </a:solidFill>
              <a:ln w="28440">
                <a:solidFill>
                  <a:srgbClr val="17b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Réacteur à sels fondus (RSF)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nité de retraitement associé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2386800" y="4967640"/>
                <a:ext cx="852120" cy="733680"/>
              </a:xfrm>
              <a:custGeom>
                <a:avLst/>
                <a:gdLst>
                  <a:gd name="textAreaLeft" fmla="*/ 284040 w 852120"/>
                  <a:gd name="textAreaRight" fmla="*/ 730080 w 852120"/>
                  <a:gd name="textAreaTop" fmla="*/ 422640 h 733680"/>
                  <a:gd name="textAreaBottom" fmla="*/ 628560 h 73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540"/>
                    </a:moveTo>
                    <a:lnTo>
                      <a:pt x="12440" y="15540"/>
                    </a:lnTo>
                    <a:lnTo>
                      <a:pt x="12440" y="7200"/>
                    </a:lnTo>
                    <a:lnTo>
                      <a:pt x="9340" y="7200"/>
                    </a:lnTo>
                    <a:lnTo>
                      <a:pt x="15470" y="0"/>
                    </a:lnTo>
                    <a:lnTo>
                      <a:pt x="21600" y="7200"/>
                    </a:lnTo>
                    <a:lnTo>
                      <a:pt x="18500" y="7200"/>
                    </a:lnTo>
                    <a:lnTo>
                      <a:pt x="185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adf5c5"/>
              </a:solidFill>
              <a:ln w="28440">
                <a:solidFill>
                  <a:srgbClr val="17b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99880" y="4022640"/>
              <a:ext cx="496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ort empoisonnement 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233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a, 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Retraitement continu nécessai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2120" y="974880"/>
            <a:ext cx="7944120" cy="3988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ycle thorium: minimisation de la production d’actinides min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0:39:55Z</dcterms:created>
  <dc:creator>campagne</dc:creator>
  <dc:description/>
  <dc:language>en-US</dc:language>
  <cp:lastModifiedBy>campagne</cp:lastModifiedBy>
  <dcterms:modified xsi:type="dcterms:W3CDTF">2002-10-28T10:40:49Z</dcterms:modified>
  <cp:revision>1</cp:revision>
  <dc:subject/>
  <dc:title>Présentation PowerPoint</dc:title>
</cp:coreProperties>
</file>